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03F-8A31-4649-9229-7959027C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B7B-7EA3-4FF5-AF12-AE00AD9E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E34-D1B3-4E8E-A0C4-D03B0204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662-4945-482B-8C7B-916396B8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2D3-F655-4BD0-A087-5209831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BB0-21AD-4BB7-99A4-44D99CA6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01-111E-47E8-AC04-70FAF09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916-A95C-403E-ACF0-655F540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EB3-CDE7-4878-B93B-A4D941A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272-EE3D-4714-9BF8-24272C8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F69-44FF-402E-8AA3-31DA295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012-C1F8-41DC-AFE2-36DCCED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7C7A-E845-47F8-8E6C-F7D8392E2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This  certificate  is  awarded  t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2767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r  the  following  special  achiev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752480"/>
            <a:ext cx="4648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ear 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03848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DD01434_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150480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DD01434_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50480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57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0:49:02Z</dcterms:created>
  <dc:creator>Victoria Appleton</dc:creator>
  <dc:description/>
  <dc:language>en-US</dc:language>
  <cp:lastModifiedBy>Victoria Appleton</cp:lastModifiedBy>
  <dcterms:modified xsi:type="dcterms:W3CDTF">2004-04-18T22:31:40Z</dcterms:modified>
  <cp:revision>2</cp:revision>
  <dc:subject/>
  <dc:title>This  certificate  is  awarded  to</dc:title>
</cp:coreProperties>
</file>